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AF1-B941-496D-A8FC-8A8260CF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DEC-D21D-48BE-B7B4-18730900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AFD-E2E6-4282-935C-1FADB825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E90-2578-4C45-B28A-95492D93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4D8F-C627-4EEF-BBFB-8C851CA0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30AB-5E1C-411C-8ABF-F7D8C306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0CAB-FFF1-4F8D-B228-B75F9288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85CE-4714-40FD-A5B7-FB650E33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9C2C-6849-4A05-B54B-12498170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8487-37AA-4393-B6E0-7C328301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F888-287A-41B1-AD66-2C37B349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617-6BDD-48CA-8C97-2B2E1DE0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8DD7-4A22-4F13-A6F5-0608A81F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4338-0751-4D91-B821-6E4BA781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1BCC-F1BF-4787-930E-5505FA67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6E59-B695-4C64-A98D-DD29156B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D684-FF15-4A6F-B4F5-6D29246C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308-E839-4B20-8746-A658FBB3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73B-9F54-4F7E-9173-113182D0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C34-7B0E-4750-9C76-D9F785A8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454-3FEF-4A7A-B668-F3C356DF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E65-11CE-4E39-9E6B-E37D09B3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2F7-80DC-494B-BBBA-4E23D9C2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557-A94F-4251-8F77-D394E353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ADBF-92F7-4381-BE1B-F3B334B5EC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F04A-A08A-4C1E-997C-B7987985A0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step to the scientific method is ob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make observations using our five senses, which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litative observ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se WORDS to describe an object or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large, small, long, short, heavy,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ntitative observ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se NUMBERS to measure an object or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100 litres, 1 tablespoon, 152 klilometres, ¼ mm, 2000 kilograms, 2 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fer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logical explanation of something based on prio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rences are tentative – they can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s there are several logical inferences for a given obse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rences often change when new observations ar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 observations and infer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 = You HEAR Ms. Besgrove call a student down to her of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rence = The student is in trouble, the student is going home, 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 = You SEE the ground is wet when you come out of the movie thea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rence =  It rained while you were in the mov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2:53:45Z</dcterms:created>
  <dc:creator>Leslie Turpin</dc:creator>
  <dc:description/>
  <dc:language>en-US</dc:language>
  <cp:lastModifiedBy>Australian International Sch</cp:lastModifiedBy>
  <dcterms:modified xsi:type="dcterms:W3CDTF">2005-02-17T00:45:39Z</dcterms:modified>
  <cp:revision>26</cp:revision>
  <dc:subject/>
  <dc:title>Welcome to success!</dc:title>
</cp:coreProperties>
</file>